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6B1-A6A6-4BE3-9C66-F819CA64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61D-0564-4131-A5EE-AD7F9043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5B9-450F-4B55-B70E-7890FC4F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0DA-1A2B-4390-930A-E48C420A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EC77-31AF-4062-8DA2-06C1B8C3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683A-96FB-4BAF-8AA2-DC92B32C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F443-C06F-4DC4-8DED-069E6EFC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B49A-D770-4C75-ABF3-9E3EA399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9834-51D0-4873-B86B-6EB7BCD1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4231-6BEC-48D6-8FBF-BD4C6510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1B67-3090-41EF-AFD6-AC0117A4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C4B7-B922-4E34-BB0D-C9E6169E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886C-1D3B-4E26-BE99-7C0BD602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9560-9484-4144-8956-BDD7D58E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B021-F354-4AD5-96B4-33028BDA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B12B-0295-4F8F-8D04-A395DBD0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C654-6926-4E11-BCD2-FC5D3F80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4C0-17FE-4190-BB6A-725A193A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32F-7E66-4F05-91A4-8FF2D040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C88-99E4-42E1-89F7-362ACF18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00B-95D8-4A7C-A8CD-37695319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FBB-93E0-40E5-BA48-1DEB5D0F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4FE-BB8F-4D34-AE30-B897143E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372-F0AF-4987-9222-6232B80A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35C9-E807-4E81-ADC3-5D8E4B1880F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E8CC-7230-4D84-BCC1-4B38CD4C713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Entidade delegatária para a Agência de Águ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920" y="3728880"/>
            <a:ext cx="705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osta aprovada pelos Comitês PCJ em 21/10/2005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060640"/>
            <a:ext cx="835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Entidade Delegatária: Consórcio PCJ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razo determinado: até 2 an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Escritório Regional em Piracicab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argos e estrutura próprios p/ as funções delegada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mponentes da direção submetidos à CT-PL e Plenários PCJ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Orientação dos trabalhos: CT-P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060640"/>
            <a:ext cx="83516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Estrutura da Direção: Coordenador Geral; Coordenador Técnico e Coordenador Adm./Financ.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rimeira atribuição: criação da “Agência PCJ”; processo seletivo para funcionamento da Agência PCJ e escolha da sed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Outras atribuições de Agência de Águ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rcerias para desenvolver as suas atividad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Não será a Secretaria Executiva, mas apoiará suas atividad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Trabalho conjunto SE e ED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1:28:47Z</dcterms:created>
  <dc:creator>lmoretti</dc:creator>
  <dc:description/>
  <dc:language>en-US</dc:language>
  <cp:lastModifiedBy>Windows</cp:lastModifiedBy>
  <dcterms:modified xsi:type="dcterms:W3CDTF">2005-11-06T19:49:47Z</dcterms:modified>
  <cp:revision>17</cp:revision>
  <dc:subject/>
  <dc:title>Cobrança pelo uso das águas</dc:title>
</cp:coreProperties>
</file>